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FB9B-08FA-4CAE-B26A-2E35BE62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3D51-497A-4947-9017-0A2A87B9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01BE-CF3D-4CF5-A46D-3B3F12C7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5D16-66DA-45D4-839A-786F618B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2786-0C06-44BF-827C-780BC5E4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E266-C83B-48EC-B713-2DD66693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C614-EB78-493C-9F3B-076EFCE9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4D6C-F0EC-4F0E-BBA2-55A309C1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FE55-9CA2-4585-AF62-F5430976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5530-662B-4295-A97D-A692FCB3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28FC-FF07-4ABF-B3FC-0919BDF6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347F-3055-4B5C-844A-021B3938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D8F1-0028-4690-A081-4B496FE8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DF00-A06A-41EB-83E7-BE211690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0A26-1EE7-4749-8DB2-E91D7C60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A697-6F79-44B7-A52A-940F3D0F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3B54-9208-4CA2-8737-4A1E938E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59DE-C0F6-4F88-8C0D-2ECF5C58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C7C6-EE70-4B72-A44A-569221AF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8C5D-5345-4D37-A3E1-B971A3CC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095C-788F-4CA8-ACA8-B0889302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3FB3-79D3-4678-8CD9-7D6B476E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2613-88AE-406A-967A-D50D395A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F750-0A5B-4C70-9F34-7B1A79C3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A648-DDF1-428E-952F-CEEB78FF264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68FF-9B87-4082-8EBD-D8A198194D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7"/>
          <p:cNvSpPr/>
          <p:nvPr/>
        </p:nvSpPr>
        <p:spPr>
          <a:xfrm>
            <a:off x="743040" y="434880"/>
            <a:ext cx="0" cy="139068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9CEC-3A50-4415-9C11-AC63FCE46F2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725C-3910-4B2F-80AF-793526D9AAB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6040" y="1338120"/>
            <a:ext cx="113252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 Black"/>
              </a:rPr>
              <a:t>新教材新课进度计划和分层培优讨论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01400" y="3238560"/>
            <a:ext cx="935028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刘秀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2022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5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11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3040" y="20271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1" lang="zh-CN" sz="4800" spc="-1" strike="noStrike">
                <a:solidFill>
                  <a:srgbClr val="000000"/>
                </a:solidFill>
                <a:latin typeface="Arial Black"/>
              </a:rPr>
              <a:t>高中物理新课进度计划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7640" y="258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分层教学做法和讨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4764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基本根据每个老师所教班级为主按成绩分成三个层次，同时全年级物理统筹安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相对较小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较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个学期根据年级组分层教学计划次数，提前预估教学进度，做好分层教学专题计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次培优根据层次不同，所教内容有所区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备课组先讨论配有内容，相应负责老师出专题，同一份资料，区分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,B,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三个层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问题：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楼层走动和纪律问题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人数较多，效果有所欠缺，不能很好的达到针对培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11T00:47:47Z</dcterms:created>
  <dc:creator>Administrator</dc:creator>
  <dc:description/>
  <dc:language>en-US</dc:language>
  <cp:lastModifiedBy>Administrator</cp:lastModifiedBy>
  <dcterms:modified xsi:type="dcterms:W3CDTF">2022-05-11T01:24:2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8506</vt:lpwstr>
  </property>
</Properties>
</file>