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DFEC-A461-4119-B93A-0ADDDACA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554E-96C5-4764-9244-15EEB516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3CD5-64E2-4BED-93B8-74A1F07F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6057-9E7D-4DB1-8C25-C10F80AE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94CF-A5C1-464C-986E-DD9C3529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3BD2-F294-4EF1-B314-DEE8388D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B24C-2900-4362-9781-7B24AC06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3502-07B3-4DF5-B8AD-10F5F3D3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7D25-20EB-42E4-8FA6-6439F55B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4A2F-11B9-4CD0-94F6-8AB1D9FD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5378-1004-41A6-B203-8D5C5759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4B8-E2F1-4714-AB7E-0048427A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BAD6-8162-4C31-A794-0E5BE976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671F-E67A-4426-923B-AC7EFF2D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056A-F4D6-4483-90C3-7D33C928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B1FD-1C39-410F-9268-D2CA2411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FA6E-5A63-444F-AC38-58BD362A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12BE-4144-4F28-B32F-3096F4EB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6811-EA4B-45AE-A23C-814CB801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A82A-AE93-4A54-B45C-B67B376F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6990-85C2-4EFB-82ED-AB7AB8A2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1DAB-1304-44C2-A07D-977A7F43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6FA2-036E-48A8-BB30-2F17E762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E41A-3CF2-4852-83C9-C13BFEA0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85E8-1610-4E58-8682-525F5F4B184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7BBC-55EB-4469-9580-78B6B4B4D97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7"/>
          <p:cNvSpPr/>
          <p:nvPr/>
        </p:nvSpPr>
        <p:spPr>
          <a:xfrm>
            <a:off x="743040" y="434880"/>
            <a:ext cx="0" cy="13906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01BC-E87E-43FC-B60F-1A22620E376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A1B9-1633-4874-9CC6-7DB9A3FE14F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6040" y="1338120"/>
            <a:ext cx="113252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 Black"/>
              </a:rPr>
              <a:t>新教材新课进度计划和分层培优讨论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01400" y="3238560"/>
            <a:ext cx="935028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刘秀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2022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5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11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3040" y="20271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Arial Black"/>
              </a:rPr>
              <a:t>高中物理新课进度计划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258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分层教学做法和讨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764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基本根据每个老师所教班级为主按成绩分成三个层次，同时全年级物理统筹安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相对较小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较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个学期根据年级组分层教学计划次数，提前预估教学进度，做好分层教学专题计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次培优根据层次不同，所教内容有所区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备课组先讨论配有内容，相应负责老师出专题，同一份资料，区分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,B,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三个层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问题：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楼层走动和纪律问题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人数较多，效果有所欠缺，不能很好的达到针对培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11T00:47:47Z</dcterms:created>
  <dc:creator>Administrator</dc:creator>
  <dc:description/>
  <dc:language>en-US</dc:language>
  <cp:lastModifiedBy>Administrator</cp:lastModifiedBy>
  <dcterms:modified xsi:type="dcterms:W3CDTF">2022-05-11T01:24:2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8506</vt:lpwstr>
  </property>
</Properties>
</file>